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A83-2576-466C-B4D7-DED4B4AD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6C4-55A7-4C97-A9D4-03F084AB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152-00D8-401D-913F-068B7925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218-6EEB-46D2-93BE-D25E97C2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7E9-52AF-47FC-B499-E9DA4A70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747-D14A-41A7-8343-CC143BC9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204-186E-422B-994C-6DB5E14B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71D-B9E7-4EEE-B855-84661C93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51F-3B8C-4420-A9BE-B026037A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1AB-36FA-477D-A8B7-C02DBBF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F0F-9A45-43B1-96D4-D6E5FFE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90F-2DE8-4E6B-B8B9-B5D79698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98B0-3B92-4D0D-874D-0AD0FCB112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0 CuadroTexto"/>
          <p:cNvSpPr/>
          <p:nvPr/>
        </p:nvSpPr>
        <p:spPr>
          <a:xfrm>
            <a:off x="5181480" y="838080"/>
            <a:ext cx="373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vances en </a:t>
            </a: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iencias de la </a:t>
            </a: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i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2 CuadroTexto"/>
          <p:cNvSpPr/>
          <p:nvPr/>
        </p:nvSpPr>
        <p:spPr>
          <a:xfrm>
            <a:off x="0" y="54100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SSN: 2172-9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7 Rectángulo"/>
          <p:cNvSpPr/>
          <p:nvPr/>
        </p:nvSpPr>
        <p:spPr>
          <a:xfrm rot="16200000">
            <a:off x="3660480" y="1062360"/>
            <a:ext cx="19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Georgia"/>
              </a:rPr>
              <a:t>Volumen 1 (Diciembre 201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8 CuadroTexto"/>
          <p:cNvSpPr/>
          <p:nvPr/>
        </p:nvSpPr>
        <p:spPr>
          <a:xfrm rot="16200000">
            <a:off x="3202200" y="5103360"/>
            <a:ext cx="281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Georgia"/>
              </a:rPr>
              <a:t>Avances en Ciencias de la Tier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2911320" cy="41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95280" y="22860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2-22T16:17:5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